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08F86-9A07-4E36-B7A3-02E50939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F5BD-42AB-47BC-A48D-911AF218F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A975D-9337-4263-9F57-43AD7E966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A3B7D-D989-4B79-8B86-7039D0ED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A9CA1-EDEA-4D78-B8B9-DBD2F9B5E7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AA948-CA05-47A9-B2E0-9861BD7DB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BC6BB-3DE3-40D1-ACDB-2B40DB48C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F8B9C-10B9-40E5-A8C3-B4CB99689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F67D7-3662-4106-95D1-7FC8D61A5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81C09-2220-41D6-AFD7-13009BB18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AF8C1-FB85-4970-853B-C43477B3E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1699-F385-4292-A9D2-E0E1D3AC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2886B-028C-4693-BECD-6B37CCCA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52261-75D4-4338-A893-C68523029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7C49B-4D2A-4D61-99F9-5B90CD796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580E8-3252-42AD-B9A6-A5A4820A8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50ACC-D187-4C37-83B6-59A5FA310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42D09-B53E-42BB-B9D4-9C01F22F0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FFE62-F202-4A3A-A447-E24346259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FBC33-03CF-416E-B5F3-F1DB81724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66F85-E930-4795-846B-BA8755EDB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A098D-DC93-452A-9739-911CEEA17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0B9A9-C990-48D7-9D93-7E217E68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7A33E-9762-451F-AEA8-DE7088D13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8C99A-57BB-433A-85F9-CE7B39329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14A30-92BC-4CD7-A43C-B22462D66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B233D-4EF2-48FA-8739-7BFDA9FDF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125EF-5E08-4ED8-86AB-48DD3A48E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3DE0D3-5F48-4DE3-8AE6-D6BB0C8A7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02C9E-BA47-4958-91D1-58ADA2DECD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286D-CCFE-4F34-A917-1BBFB45C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FF3C-EF5C-4649-8238-7BDFABB6C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DE654-7F66-46CA-948A-759B06F2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69FE-FDA9-40EE-890C-E4C8A8B17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9BCD5-2AC9-4E29-9247-4ABC6642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5D7B-C56D-456C-9C27-29B810202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C3D0-42EC-4AAF-9917-5BD16B5DC9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C40B-D426-4AB4-ACEF-67C7E3E348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B44A-6D62-4E27-8A25-FF8B351E05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oethe"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Racist" TargetMode="External"/><Relationship Id="rId2" Type="http://schemas.openxmlformats.org/officeDocument/2006/relationships/hyperlink" Target="http://en.wikipedia.org/wiki/Occasional_Discourse_on_the_Negro_Question" TargetMode="External"/><Relationship Id="rId3" Type="http://schemas.openxmlformats.org/officeDocument/2006/relationships/hyperlink" Target="http://en.wikipedia.org/wiki/Serfd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Edward_Eyr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hurch_of_England" TargetMode="External"/><Relationship Id="rId2" Type="http://schemas.openxmlformats.org/officeDocument/2006/relationships/hyperlink" Target="http://en.wikipedia.org/wiki/Oxford_Movement" TargetMode="External"/><Relationship Id="rId3" Type="http://schemas.openxmlformats.org/officeDocument/2006/relationships/hyperlink" Target="http://en.wikipedia.org/wiki/Anglican" TargetMode="External"/><Relationship Id="rId4" Type="http://schemas.openxmlformats.org/officeDocument/2006/relationships/hyperlink" Target="http://en.wikipedia.org/wiki/Catholic_Church" TargetMode="External"/><Relationship Id="rId5" Type="http://schemas.openxmlformats.org/officeDocument/2006/relationships/hyperlink" Target="http://en.wikipedia.org/wiki/Cardinal" TargetMode="External"/><Relationship Id="rId6" Type="http://schemas.openxmlformats.org/officeDocument/2006/relationships/hyperlink" Target="http://en.wikipedia.org/wiki/Pope_Leo_XIII"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Scottish_people" TargetMode="External"/><Relationship Id="rId2" Type="http://schemas.openxmlformats.org/officeDocument/2006/relationships/hyperlink" Target="http://en.wikipedia.org/wiki/Satire" TargetMode="External"/><Relationship Id="rId3" Type="http://schemas.openxmlformats.org/officeDocument/2006/relationships/hyperlink" Target="http://en.wikipedia.org/wiki/Essayist" TargetMode="External"/><Relationship Id="rId4" Type="http://schemas.openxmlformats.org/officeDocument/2006/relationships/hyperlink" Target="http://en.wikipedia.org/wiki/Historian" TargetMode="External"/><Relationship Id="rId5" Type="http://schemas.openxmlformats.org/officeDocument/2006/relationships/hyperlink" Target="http://en.wikipedia.org/wiki/Victorian_era" TargetMode="External"/><Relationship Id="rId6" Type="http://schemas.openxmlformats.org/officeDocument/2006/relationships/hyperlink" Target="http://en.wikipedia.org/wiki/Economics" TargetMode="External"/><Relationship Id="rId7" Type="http://schemas.openxmlformats.org/officeDocument/2006/relationships/hyperlink" Target="http://en.wikipedia.org/wiki/The_dismal_science" TargetMode="External"/><Relationship Id="rId8" Type="http://schemas.openxmlformats.org/officeDocument/2006/relationships/hyperlink" Target="http://en.wikipedia.org/wiki/Calvinism" TargetMode="External"/><Relationship Id="rId9" Type="http://schemas.openxmlformats.org/officeDocument/2006/relationships/hyperlink" Target="http://en.wikipedia.org/wiki/University_of_Edinburgh"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torian Essayist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2819520"/>
            <a:ext cx="640080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y of English literatur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Writing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821, Carlyle had abandoned the clergy as a possible career and focused on making a life as a writer. His first attempt at fiction was "Cruthers and Jonson", one of several abortive attempts at writing a no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Writing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ing his work on a translation of </a:t>
            </a:r>
            <a:r>
              <a:rPr b="0" lang="en-US" sz="3200" spc="-1" strike="noStrike" u="sng">
                <a:solidFill>
                  <a:srgbClr val="0000ff"/>
                </a:solidFill>
                <a:uFillTx/>
                <a:latin typeface="Calibri"/>
                <a:hlinkClick r:id="rId1"/>
              </a:rPr>
              <a:t>Goethe</a:t>
            </a:r>
            <a:r>
              <a:rPr b="0" lang="en-US" sz="3200" spc="-1" strike="noStrike">
                <a:solidFill>
                  <a:srgbClr val="000000"/>
                </a:solidFill>
                <a:latin typeface="Calibri"/>
              </a:rPr>
              <a:t>'s </a:t>
            </a:r>
            <a:r>
              <a:rPr b="0" i="1" lang="en-US" sz="3200" spc="-1" strike="noStrike">
                <a:solidFill>
                  <a:srgbClr val="000000"/>
                </a:solidFill>
                <a:latin typeface="Calibri"/>
              </a:rPr>
              <a:t>Wilhelm Meister's Apprenticeship</a:t>
            </a:r>
            <a:r>
              <a:rPr b="0" lang="en-US" sz="3200" spc="-1" strike="noStrike">
                <a:solidFill>
                  <a:srgbClr val="000000"/>
                </a:solidFill>
                <a:latin typeface="Calibri"/>
              </a:rPr>
              <a:t>, he came to distrust the form of the realistic novel and so worked on developing a new form of fiction. In addition to his essays on German literature, he branched out into wider ranging commentary on modern culture in his influential essays </a:t>
            </a:r>
            <a:r>
              <a:rPr b="0" i="1" lang="en-US" sz="3200" spc="-1" strike="noStrike">
                <a:solidFill>
                  <a:srgbClr val="000000"/>
                </a:solidFill>
                <a:latin typeface="Calibri"/>
              </a:rPr>
              <a:t>Signs of the Times</a:t>
            </a:r>
            <a:r>
              <a:rPr b="0" lang="en-US" sz="3200" spc="-1" strike="noStrike">
                <a:solidFill>
                  <a:srgbClr val="000000"/>
                </a:solidFill>
                <a:latin typeface="Calibri"/>
              </a:rPr>
              <a:t> and </a:t>
            </a:r>
            <a:r>
              <a:rPr b="0" i="1" lang="en-US" sz="3200" spc="-1" strike="noStrike">
                <a:solidFill>
                  <a:srgbClr val="000000"/>
                </a:solidFill>
                <a:latin typeface="Calibri"/>
              </a:rPr>
              <a:t>Characteristic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says</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er writings were generally short essays, often indicating the hardening of Carlyle's political positions. His notoriously </a:t>
            </a:r>
            <a:r>
              <a:rPr b="0" lang="en-US" sz="3200" spc="-1" strike="noStrike" u="sng">
                <a:solidFill>
                  <a:srgbClr val="0000ff"/>
                </a:solidFill>
                <a:uFillTx/>
                <a:latin typeface="Calibri"/>
                <a:hlinkClick r:id="rId1"/>
              </a:rPr>
              <a:t>racist</a:t>
            </a:r>
            <a:r>
              <a:rPr b="0" lang="en-US" sz="3200" spc="-1" strike="noStrike">
                <a:solidFill>
                  <a:srgbClr val="000000"/>
                </a:solidFill>
                <a:latin typeface="Calibri"/>
              </a:rPr>
              <a:t> essay "</a:t>
            </a:r>
            <a:r>
              <a:rPr b="0" lang="en-US" sz="3200" spc="-1" strike="noStrike" u="sng">
                <a:solidFill>
                  <a:srgbClr val="0000ff"/>
                </a:solidFill>
                <a:uFillTx/>
                <a:latin typeface="Calibri"/>
                <a:hlinkClick r:id="rId2"/>
              </a:rPr>
              <a:t>Occasional Discourse on the Negro Question</a:t>
            </a:r>
            <a:r>
              <a:rPr b="0" lang="en-US" sz="3200" spc="-1" strike="noStrike">
                <a:solidFill>
                  <a:srgbClr val="000000"/>
                </a:solidFill>
                <a:latin typeface="Calibri"/>
              </a:rPr>
              <a:t>" suggested that slavery should never have been abolished, or else replaced with </a:t>
            </a:r>
            <a:r>
              <a:rPr b="0" lang="en-US" sz="3200" spc="-1" strike="noStrike" u="sng">
                <a:solidFill>
                  <a:srgbClr val="0000ff"/>
                </a:solidFill>
                <a:uFillTx/>
                <a:latin typeface="Calibri"/>
                <a:hlinkClick r:id="rId3"/>
              </a:rPr>
              <a:t>serfdom</a:t>
            </a:r>
            <a:r>
              <a:rPr b="0" lang="en-US" sz="3200" spc="-1" strike="noStrike">
                <a:solidFill>
                  <a:srgbClr val="000000"/>
                </a:solidFill>
                <a:latin typeface="Calibri"/>
              </a:rPr>
              <a:t>. It had kept order, he argued, and forced work from people who would otherwise have been lazy and feckl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say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 and Carlyle's support for the repressive measures of Governor </a:t>
            </a:r>
            <a:r>
              <a:rPr b="0" lang="en-US" sz="3200" spc="-1" strike="noStrike" u="sng">
                <a:solidFill>
                  <a:srgbClr val="0000ff"/>
                </a:solidFill>
                <a:uFillTx/>
                <a:latin typeface="Calibri"/>
                <a:hlinkClick r:id="rId1"/>
              </a:rPr>
              <a:t>Edward Eyre</a:t>
            </a:r>
            <a:r>
              <a:rPr b="0" lang="en-US" sz="3200" spc="-1" strike="noStrike">
                <a:solidFill>
                  <a:srgbClr val="000000"/>
                </a:solidFill>
                <a:latin typeface="Calibri"/>
              </a:rPr>
              <a:t> in Jamaica – further alienated him from his old liberal allies. Eyre had been accused of brutal lynchings while suppressing a rebellion. Carlyle set up a committee to defend Eyre, while Mill organised for his prosec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Henry Newman</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John Henry Newman</a:t>
            </a:r>
            <a:r>
              <a:rPr b="0" lang="en-US" sz="2700" spc="-1" strike="noStrike">
                <a:solidFill>
                  <a:srgbClr val="000000"/>
                </a:solidFill>
                <a:latin typeface="Calibri"/>
              </a:rPr>
              <a:t>, (21 February 1801 – 11 August 1890),also referred to as </a:t>
            </a:r>
            <a:r>
              <a:rPr b="1" lang="en-US" sz="2700" spc="-1" strike="noStrike">
                <a:solidFill>
                  <a:srgbClr val="000000"/>
                </a:solidFill>
                <a:latin typeface="Calibri"/>
              </a:rPr>
              <a:t>Cardinal Newman</a:t>
            </a:r>
            <a:r>
              <a:rPr b="0" lang="en-US" sz="2700" spc="-1" strike="noStrike">
                <a:solidFill>
                  <a:srgbClr val="000000"/>
                </a:solidFill>
                <a:latin typeface="Calibri"/>
              </a:rPr>
              <a:t> and </a:t>
            </a:r>
            <a:r>
              <a:rPr b="1" lang="en-US" sz="2700" spc="-1" strike="noStrike">
                <a:solidFill>
                  <a:srgbClr val="000000"/>
                </a:solidFill>
                <a:latin typeface="Calibri"/>
              </a:rPr>
              <a:t>Blessed John Henry Newman</a:t>
            </a:r>
            <a:r>
              <a:rPr b="0" lang="en-US" sz="2700" spc="-1" strike="noStrike">
                <a:solidFill>
                  <a:srgbClr val="000000"/>
                </a:solidFill>
                <a:latin typeface="Calibri"/>
              </a:rPr>
              <a:t>, was an important figure in the religious history of England in the 19th century. He was known nationally by the mid-1830s.</a:t>
            </a:r>
            <a:endParaRPr b="0" lang="en-US" sz="2700" spc="-1" strike="noStrike">
              <a:solidFill>
                <a:srgbClr val="000000"/>
              </a:solidFill>
              <a:latin typeface="Calibri"/>
            </a:endParaRPr>
          </a:p>
          <a:p>
            <a:pPr marL="272880" indent="-272880">
              <a:lnSpc>
                <a:spcPct val="8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ally an evangelical Oxford academic and clergyman in the </a:t>
            </a:r>
            <a:r>
              <a:rPr b="0" lang="en-US" sz="2700" spc="-1" strike="noStrike" u="sng">
                <a:solidFill>
                  <a:srgbClr val="0000ff"/>
                </a:solidFill>
                <a:uFillTx/>
                <a:latin typeface="Calibri"/>
                <a:hlinkClick r:id="rId1"/>
              </a:rPr>
              <a:t>Church of England</a:t>
            </a:r>
            <a:r>
              <a:rPr b="0" lang="en-US" sz="2700" spc="-1" strike="noStrike">
                <a:solidFill>
                  <a:srgbClr val="000000"/>
                </a:solidFill>
                <a:latin typeface="Calibri"/>
              </a:rPr>
              <a:t>, Newman was a leader in the </a:t>
            </a:r>
            <a:r>
              <a:rPr b="0" lang="en-US" sz="2700" spc="-1" strike="noStrike" u="sng">
                <a:solidFill>
                  <a:srgbClr val="0000ff"/>
                </a:solidFill>
                <a:uFillTx/>
                <a:latin typeface="Calibri"/>
                <a:hlinkClick r:id="rId2"/>
              </a:rPr>
              <a:t>Oxford Movement</a:t>
            </a:r>
            <a:r>
              <a:rPr b="0" lang="en-US" sz="2700" spc="-1" strike="noStrike">
                <a:solidFill>
                  <a:srgbClr val="000000"/>
                </a:solidFill>
                <a:latin typeface="Calibri"/>
              </a:rPr>
              <a:t>. This influential grouping of </a:t>
            </a:r>
            <a:r>
              <a:rPr b="0" lang="en-US" sz="2700" spc="-1" strike="noStrike" u="sng">
                <a:solidFill>
                  <a:srgbClr val="0000ff"/>
                </a:solidFill>
                <a:uFillTx/>
                <a:latin typeface="Calibri"/>
                <a:hlinkClick r:id="rId3"/>
              </a:rPr>
              <a:t>Anglicans</a:t>
            </a:r>
            <a:r>
              <a:rPr b="0" lang="en-US" sz="2700" spc="-1" strike="noStrike">
                <a:solidFill>
                  <a:srgbClr val="000000"/>
                </a:solidFill>
                <a:latin typeface="Calibri"/>
              </a:rPr>
              <a:t> wished to return the Church of England to many Catholic beliefs and forms of worship. He left the Anglican church and converted to </a:t>
            </a:r>
            <a:r>
              <a:rPr b="0" lang="en-US" sz="2700" spc="-1" strike="noStrike" u="sng">
                <a:solidFill>
                  <a:srgbClr val="0000ff"/>
                </a:solidFill>
                <a:uFillTx/>
                <a:latin typeface="Calibri"/>
                <a:hlinkClick r:id="rId4"/>
              </a:rPr>
              <a:t>Roman Catholicism</a:t>
            </a:r>
            <a:r>
              <a:rPr b="0" lang="en-US" sz="2700" spc="-1" strike="noStrike">
                <a:solidFill>
                  <a:srgbClr val="000000"/>
                </a:solidFill>
                <a:latin typeface="Calibri"/>
              </a:rPr>
              <a:t> (1845), eventually being granted the rank of </a:t>
            </a:r>
            <a:r>
              <a:rPr b="0" lang="en-US" sz="2700" spc="-1" strike="noStrike" u="sng">
                <a:solidFill>
                  <a:srgbClr val="0000ff"/>
                </a:solidFill>
                <a:uFillTx/>
                <a:latin typeface="Calibri"/>
                <a:hlinkClick r:id="rId5"/>
              </a:rPr>
              <a:t>Cardinal</a:t>
            </a:r>
            <a:r>
              <a:rPr b="0" lang="en-US" sz="2700" spc="-1" strike="noStrike">
                <a:solidFill>
                  <a:srgbClr val="000000"/>
                </a:solidFill>
                <a:latin typeface="Calibri"/>
              </a:rPr>
              <a:t> by </a:t>
            </a:r>
            <a:r>
              <a:rPr b="0" lang="en-US" sz="2700" spc="-1" strike="noStrike" u="sng">
                <a:solidFill>
                  <a:srgbClr val="0000ff"/>
                </a:solidFill>
                <a:uFillTx/>
                <a:latin typeface="Calibri"/>
                <a:hlinkClick r:id="rId6"/>
              </a:rPr>
              <a:t>Pope Leo XIII</a:t>
            </a:r>
            <a:r>
              <a:rPr b="0" lang="en-US"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man’s Writing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of Newman's short and earlier poems are described by R. H. Hutton as "unequalled for grandeur of outline, purity of taste and radiance of total effect"; while his latest and longest, </a:t>
            </a:r>
            <a:r>
              <a:rPr b="0" i="1" lang="en-US" sz="3000" spc="-1" strike="noStrike">
                <a:solidFill>
                  <a:srgbClr val="000000"/>
                </a:solidFill>
                <a:latin typeface="Calibri"/>
              </a:rPr>
              <a:t>The Dream of Gerontius</a:t>
            </a:r>
            <a:r>
              <a:rPr b="0" lang="en-US" sz="3000" spc="-1" strike="noStrike">
                <a:solidFill>
                  <a:srgbClr val="000000"/>
                </a:solidFill>
                <a:latin typeface="Calibri"/>
              </a:rPr>
              <a:t>, attempts to represent the unseen world along the same lines as Dante. His prose style, especially in his Catholic days, is fresh and vigorous, and is attractive to many who do not sympathise with his conclusions, from the apparent candour with which difficulties are admitted and grappled; while in his private correspondence there is charm. ".</a:t>
            </a:r>
            <a:endParaRPr b="0" lang="en-US" sz="30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man’s Writing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272880" indent="-2728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also published a set of lectures entitled </a:t>
            </a:r>
            <a:r>
              <a:rPr b="0" i="1" lang="en-US" sz="3200" spc="-1" strike="noStrike">
                <a:solidFill>
                  <a:srgbClr val="000000"/>
                </a:solidFill>
                <a:latin typeface="Calibri"/>
              </a:rPr>
              <a:t>The Idea of a University.  </a:t>
            </a:r>
            <a:r>
              <a:rPr b="0" lang="en-US" sz="3200" spc="-1" strike="noStrike">
                <a:solidFill>
                  <a:srgbClr val="000000"/>
                </a:solidFill>
                <a:latin typeface="Calibri"/>
              </a:rPr>
              <a:t>James Joyce had a lifelong admiration for Newman's writing, and in a letter to his patron Harriet Shaw Weaver humorously remarked about Newman that "nobody has ever written English prose that can be compared with that of a tiresome footling little Anglican parson who afterwards became a prince of the only true chu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Stuart Mill</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806-1873. Raised as a utilitarian, but later influenced by the work of Wordsworth, he opposed the utilitarian view-point of the times put forth by Jeremy Bentham, who thought that poetry "stimulated the passions and prejudices, and that it was therefore socially harmful." (This seems like an on-going argument that can be traced from Plato's Republic all the way to the U.S. Senate sub-committee on the National Endowment for the arts. Someone's always accusing poetry of either volatile, subversive, or just immoral purposes.) </a:t>
            </a:r>
            <a:endParaRPr b="0" lang="en-US" sz="30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ls’ Argument for Poetry</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26712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67120" indent="-26712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discussing how people know the difference between something that is poetic and something that is not, Mill says "[t]he appearance of a difference is itself a real difference." This is an interesting statement. He basically says that once something is said, or implied, even if it isn't true necessarily, the question is out there for discussion. </a:t>
            </a:r>
            <a:endParaRPr b="0" lang="en-US" sz="2200" spc="-1" strike="noStrike">
              <a:solidFill>
                <a:srgbClr val="000000"/>
              </a:solidFill>
              <a:latin typeface="Calibri"/>
            </a:endParaRPr>
          </a:p>
          <a:p>
            <a:pPr marL="267120" indent="-26712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suggests that the differences in emphasis between the novel and poetry is so great that the forms are almost "mutually exclusive" and he even wonders how those who really appreciate one could care at all about the other. While he says that "many of the finest poems are in the form of novels, and in almost all good novels there is true poetry," the difference between the two is that the novel "is derived from incident" where poetry comes from a "representation of feeling." He goes so far as to suggest that the epic poetry is not really poetry at all.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ls’ Argument for Poetry</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 talks about the difference between description in poetry and other kinds of writing saying that fiction or science would try to convey the truth about the outward appearance of things. Poetry on the other hand, may not describe the outward appearance accurately (it wouldn't even try) but would describe the thing in a way that the emotions produced by it are rendered with "scrupulous truth." </a:t>
            </a:r>
            <a:endParaRPr b="0" lang="en-US" sz="2000" spc="-1" strike="noStrike">
              <a:solidFill>
                <a:srgbClr val="000000"/>
              </a:solidFill>
              <a:latin typeface="Calibri"/>
            </a:endParaRPr>
          </a:p>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 grants that poetry is "impassioned truth" but says that can't be all it is, because that is a description of eloquence, which is also present in philosophy, among other things. The difference, he suggests is that "eloquence is heard, poetry is overheard." Eloquence is specifically meant to move an audience while poetry is like hearing private thoughts, and here he uses a gorgeous line: </a:t>
            </a:r>
            <a:r>
              <a:rPr b="1" lang="en-US" sz="2000" spc="-1" strike="noStrike">
                <a:solidFill>
                  <a:srgbClr val="000000"/>
                </a:solidFill>
                <a:latin typeface="Calibri"/>
              </a:rPr>
              <a:t>"Poetry is feeling confessing itself to itself."</a:t>
            </a:r>
            <a:r>
              <a:rPr b="0" lang="en-US" sz="2000" spc="-1" strike="noStrike">
                <a:solidFill>
                  <a:srgbClr val="000000"/>
                </a:solidFill>
                <a:latin typeface="Calibri"/>
              </a:rPr>
              <a:t> This act of poetry makes it "soliloquy." He uses a simile to acting by suggesting that if an actor is too aware of the audience, he will deliver a bad performance. The same is true of a poet. He has to write for himself alone, even if he plans to publish it, because the moment he begins to write for someone else, the work becomes not poetic, but eloque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Victorian prose is in keeping with the energetic temperament of the time. An expansive energy seems to be characteristic of the whole period, displaying itself as freely in literature as in the development of science, geographical exploration and the rapidity of economic chan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62728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ohn Ruskin</a:t>
            </a:r>
            <a:endParaRPr b="0" lang="en-US" sz="4000" spc="-1" strike="noStrike">
              <a:solidFill>
                <a:srgbClr val="000000"/>
              </a:solidFill>
              <a:latin typeface="Calibri"/>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Life</a:t>
            </a: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1819, in London to a wine merchant and strict, Evangelical moth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nt time in isolation and with few to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veled to the continent at age 6</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shed first poem at the age of 11</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duated from Oxford in 1842 after a period of illnes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ried to Euphemia (Effie) Gray in 184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 and Turner</a:t>
            </a:r>
            <a:endParaRPr b="0" lang="en-US" sz="4400" spc="-1" strike="noStrike">
              <a:solidFill>
                <a:srgbClr val="000000"/>
              </a:solidFill>
              <a:latin typeface="Calibri"/>
            </a:endParaRPr>
          </a:p>
        </p:txBody>
      </p:sp>
      <p:sp>
        <p:nvSpPr>
          <p:cNvPr id="17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836, wrote an essay defending J.M.W. Turner (1775-185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mantic landscape artis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an </a:t>
            </a:r>
            <a:r>
              <a:rPr b="0" i="1" lang="en-US" sz="2800" spc="-1" strike="noStrike">
                <a:solidFill>
                  <a:srgbClr val="000000"/>
                </a:solidFill>
                <a:latin typeface="Calibri"/>
              </a:rPr>
              <a:t>Modern Painters</a:t>
            </a:r>
            <a:r>
              <a:rPr b="0" lang="en-US" sz="2800" spc="-1" strike="noStrike">
                <a:solidFill>
                  <a:srgbClr val="000000"/>
                </a:solidFill>
                <a:latin typeface="Calibri"/>
              </a:rPr>
              <a:t> in response to attacks on Turner</a:t>
            </a:r>
            <a:endParaRPr b="0" lang="en-US" sz="2800" spc="-1" strike="noStrike">
              <a:solidFill>
                <a:srgbClr val="000000"/>
              </a:solidFill>
              <a:latin typeface="Calibri"/>
            </a:endParaRPr>
          </a:p>
        </p:txBody>
      </p:sp>
      <p:pic>
        <p:nvPicPr>
          <p:cNvPr id="171" name="Picture 5" descr="_x001c_Turner.grandcanal.350pix.jpg                                   00EE9EFD_x000c_Macintosh HD                   C1E6AA42:"/>
          <p:cNvPicPr/>
          <p:nvPr/>
        </p:nvPicPr>
        <p:blipFill>
          <a:blip r:embed="rId1"/>
          <a:stretch/>
        </p:blipFill>
        <p:spPr>
          <a:xfrm>
            <a:off x="4648320" y="2133720"/>
            <a:ext cx="3809880" cy="2766960"/>
          </a:xfrm>
          <a:prstGeom prst="rect">
            <a:avLst/>
          </a:prstGeom>
          <a:ln w="0">
            <a:noFill/>
          </a:ln>
        </p:spPr>
      </p:pic>
      <p:sp>
        <p:nvSpPr>
          <p:cNvPr id="172" name="Text Box 6"/>
          <p:cNvSpPr/>
          <p:nvPr/>
        </p:nvSpPr>
        <p:spPr>
          <a:xfrm>
            <a:off x="4849200" y="5029200"/>
            <a:ext cx="34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nd Canal, Venice (18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 and the Pre-Raphaelites</a:t>
            </a:r>
            <a:endParaRPr b="0" lang="en-US" sz="4400" spc="-1" strike="noStrike">
              <a:solidFill>
                <a:srgbClr val="000000"/>
              </a:solidFill>
              <a:latin typeface="Calibri"/>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ds the Pre-Raphaelite Brotherhood from attacks in 1850</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am Holman Hu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 Everett Milla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nte Gabriel Rossetti</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principle of “returning to Nature”</a:t>
            </a:r>
            <a:endParaRPr b="0" lang="en-US" sz="2800" spc="-1" strike="noStrike">
              <a:solidFill>
                <a:srgbClr val="000000"/>
              </a:solidFill>
              <a:latin typeface="Calibri"/>
            </a:endParaRPr>
          </a:p>
        </p:txBody>
      </p:sp>
      <p:pic>
        <p:nvPicPr>
          <p:cNvPr id="175" name="Picture 5" descr="_x001b_Hunt_Light_of_the_World.jpg                                    00EE9EFD_x000c_Macintosh HD                   C1E6AA42:"/>
          <p:cNvPicPr/>
          <p:nvPr/>
        </p:nvPicPr>
        <p:blipFill>
          <a:blip r:embed="rId1"/>
          <a:stretch/>
        </p:blipFill>
        <p:spPr>
          <a:xfrm>
            <a:off x="5532480" y="1981080"/>
            <a:ext cx="2039760" cy="3276720"/>
          </a:xfrm>
          <a:prstGeom prst="rect">
            <a:avLst/>
          </a:prstGeom>
          <a:ln w="0">
            <a:noFill/>
          </a:ln>
        </p:spPr>
      </p:pic>
      <p:sp>
        <p:nvSpPr>
          <p:cNvPr id="176" name="Text Box 6"/>
          <p:cNvSpPr/>
          <p:nvPr/>
        </p:nvSpPr>
        <p:spPr>
          <a:xfrm>
            <a:off x="5096520" y="5638680"/>
            <a:ext cx="330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olman Hu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Light of the World” (18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rist in the House of His Parents (1849-50), by Millais</a:t>
            </a:r>
            <a:endParaRPr b="0" lang="en-US" sz="4000" spc="-1" strike="noStrike">
              <a:solidFill>
                <a:srgbClr val="000000"/>
              </a:solidFill>
              <a:latin typeface="Calibri"/>
            </a:endParaRPr>
          </a:p>
        </p:txBody>
      </p:sp>
      <p:pic>
        <p:nvPicPr>
          <p:cNvPr id="178" name="Picture 4" descr="_x001f_Millais-christ-in-th#F63183.jpg                                00EE9EFD_x000c_Macintosh HD                   C1E6AA42:"/>
          <p:cNvPicPr/>
          <p:nvPr/>
        </p:nvPicPr>
        <p:blipFill>
          <a:blip r:embed="rId1"/>
          <a:stretch/>
        </p:blipFill>
        <p:spPr>
          <a:xfrm>
            <a:off x="1311120" y="1981080"/>
            <a:ext cx="6519960" cy="411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 Millais and Divorce</a:t>
            </a:r>
            <a:endParaRPr b="0" lang="en-US" sz="4400" spc="-1" strike="noStrike">
              <a:solidFill>
                <a:srgbClr val="000000"/>
              </a:solidFill>
              <a:latin typeface="Calibri"/>
            </a:endParaRPr>
          </a:p>
        </p:txBody>
      </p:sp>
      <p:sp>
        <p:nvSpPr>
          <p:cNvPr id="18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on Millais as a protégé</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vels to Scotland with Millais and wife, Effie in 1853</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orces Effie in 1854</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consummation</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ie and Millais marry in 1855</a:t>
            </a:r>
            <a:endParaRPr b="0" lang="en-US" sz="2800" spc="-1" strike="noStrike">
              <a:solidFill>
                <a:srgbClr val="000000"/>
              </a:solidFill>
              <a:latin typeface="Calibri"/>
            </a:endParaRPr>
          </a:p>
        </p:txBody>
      </p:sp>
      <p:pic>
        <p:nvPicPr>
          <p:cNvPr id="181" name="Picture 5" descr="_x0012_Millais_Ruskin.jpg                                             00EE9EFD_x000c_Macintosh HD                   C1E6AA42:"/>
          <p:cNvPicPr/>
          <p:nvPr/>
        </p:nvPicPr>
        <p:blipFill>
          <a:blip r:embed="rId1"/>
          <a:stretch/>
        </p:blipFill>
        <p:spPr>
          <a:xfrm>
            <a:off x="4782960" y="1981080"/>
            <a:ext cx="3538800" cy="4114800"/>
          </a:xfrm>
          <a:prstGeom prst="rect">
            <a:avLst/>
          </a:prstGeom>
          <a:ln w="0">
            <a:noFill/>
          </a:ln>
        </p:spPr>
      </p:pic>
      <p:sp>
        <p:nvSpPr>
          <p:cNvPr id="182" name="Text Box 6"/>
          <p:cNvSpPr/>
          <p:nvPr/>
        </p:nvSpPr>
        <p:spPr>
          <a:xfrm>
            <a:off x="4887000" y="6035760"/>
            <a:ext cx="2486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Ruskin (1853-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illa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Life</a:t>
            </a: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s Rose la Touche in 1858 (age 9)</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s marriage when she turns 18</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never marry, Rose dies at the age of 27 after suffering from mental illnes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ound 1877 begins to suffer from a series of attacks of mental ill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iliated in the Ruskin v. Whistler tri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es 20 January, 19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 v. Whistler</a:t>
            </a:r>
            <a:endParaRPr b="0" lang="en-US" sz="4400" spc="-1" strike="noStrike">
              <a:solidFill>
                <a:srgbClr val="000000"/>
              </a:solidFill>
              <a:latin typeface="Calibri"/>
            </a:endParaRPr>
          </a:p>
        </p:txBody>
      </p:sp>
      <p:sp>
        <p:nvSpPr>
          <p:cNvPr id="18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skin accuses Whistler of charging “two hundred guineas for flinging a pot of paint in the public's 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stler sues for libel</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warded one farthing</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skin damaged mentally, emotionally and financially by the experience</a:t>
            </a:r>
            <a:endParaRPr b="0" lang="en-US" sz="1800" spc="-1" strike="noStrike">
              <a:solidFill>
                <a:srgbClr val="000000"/>
              </a:solidFill>
              <a:latin typeface="Calibri"/>
            </a:endParaRPr>
          </a:p>
        </p:txBody>
      </p:sp>
      <p:pic>
        <p:nvPicPr>
          <p:cNvPr id="187" name="Picture 5" descr="_x001f_James_Abbot_McNeill_#F6322B.jpg                                00EE9EFD_x000c_Macintosh HD                   C1E6AA42:"/>
          <p:cNvPicPr/>
          <p:nvPr/>
        </p:nvPicPr>
        <p:blipFill>
          <a:blip r:embed="rId1"/>
          <a:stretch/>
        </p:blipFill>
        <p:spPr>
          <a:xfrm>
            <a:off x="1066680" y="1676520"/>
            <a:ext cx="3063960" cy="4114800"/>
          </a:xfrm>
          <a:prstGeom prst="rect">
            <a:avLst/>
          </a:prstGeom>
          <a:ln w="0">
            <a:noFill/>
          </a:ln>
        </p:spPr>
      </p:pic>
      <p:sp>
        <p:nvSpPr>
          <p:cNvPr id="188" name="Text Box 6"/>
          <p:cNvSpPr/>
          <p:nvPr/>
        </p:nvSpPr>
        <p:spPr>
          <a:xfrm>
            <a:off x="935640" y="5715000"/>
            <a:ext cx="367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cturne in Black and Gold (18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McNeill Whist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s Major Works</a:t>
            </a:r>
            <a:endParaRPr b="0" lang="en-US" sz="4400" spc="-1" strike="noStrike">
              <a:solidFill>
                <a:srgbClr val="000000"/>
              </a:solidFill>
              <a:latin typeface="Calibri"/>
            </a:endParaRPr>
          </a:p>
        </p:txBody>
      </p:sp>
      <p:sp>
        <p:nvSpPr>
          <p:cNvPr id="190"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rt and architectur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odern Painters,</a:t>
            </a:r>
            <a:r>
              <a:rPr b="0" lang="en-US" sz="2400" spc="-1" strike="noStrike">
                <a:solidFill>
                  <a:srgbClr val="000000"/>
                </a:solidFill>
                <a:latin typeface="Calibri"/>
              </a:rPr>
              <a:t> Volumes 1-5 (1843-186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Seven Lamps of Architecture</a:t>
            </a:r>
            <a:r>
              <a:rPr b="0" lang="en-US" sz="2400" spc="-1" strike="noStrike">
                <a:solidFill>
                  <a:srgbClr val="000000"/>
                </a:solidFill>
                <a:latin typeface="Calibri"/>
              </a:rPr>
              <a:t> (1849)</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Stones of Venice </a:t>
            </a:r>
            <a:r>
              <a:rPr b="0" lang="en-US" sz="2400" spc="-1" strike="noStrike">
                <a:solidFill>
                  <a:srgbClr val="000000"/>
                </a:solidFill>
                <a:latin typeface="Calibri"/>
              </a:rPr>
              <a:t>(1851-53)</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society and politic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Unto This Last” (186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ors Clavigera </a:t>
            </a:r>
            <a:r>
              <a:rPr b="0" lang="en-US" sz="2400" spc="-1" strike="noStrike">
                <a:solidFill>
                  <a:srgbClr val="000000"/>
                </a:solidFill>
                <a:latin typeface="Calibri"/>
              </a:rPr>
              <a:t>(1871)</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raeterita</a:t>
            </a:r>
            <a:r>
              <a:rPr b="0" lang="en-US" sz="2800" spc="-1" strike="noStrike">
                <a:solidFill>
                  <a:srgbClr val="000000"/>
                </a:solidFill>
                <a:latin typeface="Calibri"/>
              </a:rPr>
              <a:t> (1885-89)</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biography</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works comprise 39 large volu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kin’s Legacy</a:t>
            </a:r>
            <a:endParaRPr b="0" lang="en-US" sz="4400" spc="-1" strike="noStrike">
              <a:solidFill>
                <a:srgbClr val="000000"/>
              </a:solidFill>
              <a:latin typeface="Calibri"/>
            </a:endParaRPr>
          </a:p>
        </p:txBody>
      </p:sp>
      <p:sp>
        <p:nvSpPr>
          <p:cNvPr id="192"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d famous authors and political leader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o Tolstoy, Marcel Proust, Mahatma Ghandi, Oscar Wil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ed socialist movements and welfare sys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al Trus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dismissed in the early-mid twentieth century but beginning to be re-discovered and appreci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energetic mood prescribes the inventiveness and fertility of the prose-writers of the period and explains the vitality of so many of their works. Carlyle’s </a:t>
            </a:r>
            <a:r>
              <a:rPr b="0" i="1" lang="en-US" sz="3200" spc="-1" strike="noStrike">
                <a:solidFill>
                  <a:srgbClr val="000000"/>
                </a:solidFill>
                <a:latin typeface="Calibri"/>
              </a:rPr>
              <a:t>The French Revolution, </a:t>
            </a:r>
            <a:r>
              <a:rPr b="0" lang="en-US" sz="3200" spc="-1" strike="noStrike">
                <a:solidFill>
                  <a:srgbClr val="000000"/>
                </a:solidFill>
                <a:latin typeface="Calibri"/>
              </a:rPr>
              <a:t>Ruskin’s </a:t>
            </a:r>
            <a:r>
              <a:rPr b="0" i="1" lang="en-US" sz="3200" spc="-1" strike="noStrike">
                <a:solidFill>
                  <a:srgbClr val="000000"/>
                </a:solidFill>
                <a:latin typeface="Calibri"/>
              </a:rPr>
              <a:t>Modern Painters </a:t>
            </a:r>
            <a:r>
              <a:rPr b="0" lang="en-US" sz="3200" spc="-1" strike="noStrike">
                <a:solidFill>
                  <a:srgbClr val="000000"/>
                </a:solidFill>
                <a:latin typeface="Calibri"/>
              </a:rPr>
              <a:t>and Arnold’s</a:t>
            </a:r>
            <a:r>
              <a:rPr b="0" i="1" lang="en-US" sz="3200" spc="-1" strike="noStrike">
                <a:solidFill>
                  <a:srgbClr val="000000"/>
                </a:solidFill>
                <a:latin typeface="Calibri"/>
              </a:rPr>
              <a:t> Essays in Criticism </a:t>
            </a:r>
            <a:r>
              <a:rPr b="0" lang="en-US" sz="3200" spc="-1" strike="noStrike">
                <a:solidFill>
                  <a:srgbClr val="000000"/>
                </a:solidFill>
                <a:latin typeface="Calibri"/>
              </a:rPr>
              <a:t>are not modest and light-hearted compositions, but they represent the aesthetic equivalent of self-assertion and an urgent ‘will to survive’ which was characteristic of the early Victoria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 Cited</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John Henry Newman:  Writer.” http://en.wikipedia.org/wiki/John_Henry_Newman#Wri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John Stuart Mill Critical Works.” http://core.ecu.edu/engl/kaind/crit/milltext.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omas Carlyle Writings.” http://en.wikipedia.org/wiki/Thomas_Carlyle#Early_writ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ir prose is not, as a rule, flawless in diction and rhythm, or easily related to a central standard of correctness or polished to a uniform high finish, but it is a prose which is vigorous, intricate and ample, and is more conscious of vocabulary and imagery than of balance and rhythm. The dominant impression of zestful and workmanlike pro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the number of prose-writers during the period is quite large, there is a greater variety of style among them than to be found in any other period. In the absence any well-defined tradition of prose-writing, each writer cherishes his oddities and idiosyncrasies and is not prepared to sacrifice his peculiarities in deference to a received trad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ictorian individualism, the ‘Doing As One Likes’, censured by Matthew Arnold, reverberates in prose sty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king the Victorian prose as a whole, we can say that it is Romantic prose. Though Romanticism gave a new direction to English poetry between 1780 and 1830, its full effects on prose were delayed until the eighteen-thirties when all the major Romantic poets were either dead or moribund. That is why, early Victorian prose is, properly speaking, Romantic prose, and Carlyle is the best example of a Romantic prose-artis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fact it were the romantic elements—unevenness, seriousness of tone, concreteness and particularity—which constitute the underlying unity of the prose of the early Victorian period. All the great prose writers of period—Carlyle, Ruskin, Macaulay and Matthew Arnold have these qualities in comm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Ink 4"/>
          <p:cNvSpPr/>
          <p:nvPr/>
        </p:nvSpPr>
        <p:spPr>
          <a:xfrm>
            <a:off x="6267600" y="4476600"/>
            <a:ext cx="72720" cy="12960"/>
          </a:xfrm>
          <a:custGeom>
            <a:avLst/>
            <a:gdLst/>
            <a:ahLst/>
            <a:rect l="l" t="t" r="r" b="b"/>
            <a:pathLst>
              <a:path w="202" h="38">
                <a:moveTo>
                  <a:pt x="17611" y="12471"/>
                </a:moveTo>
                <a:cubicBezTo>
                  <a:pt x="17549" y="12467"/>
                  <a:pt x="17493" y="12460"/>
                  <a:pt x="17433" y="12442"/>
                </a:cubicBezTo>
                <a:cubicBezTo>
                  <a:pt x="17425" y="12439"/>
                  <a:pt x="17418" y="12437"/>
                  <a:pt x="17410" y="12434"/>
                </a:cubicBezTo>
              </a:path>
            </a:pathLst>
          </a:custGeom>
          <a:noFill/>
          <a:ln cap="rnd" w="1908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0" name="Ink 5"/>
          <p:cNvSpPr/>
          <p:nvPr/>
        </p:nvSpPr>
        <p:spPr>
          <a:xfrm>
            <a:off x="954000" y="2620800"/>
            <a:ext cx="1930320" cy="66960"/>
          </a:xfrm>
          <a:custGeom>
            <a:avLst/>
            <a:gdLst/>
            <a:ahLst/>
            <a:rect l="l" t="t" r="r" b="b"/>
            <a:pathLst>
              <a:path w="5361" h="185">
                <a:moveTo>
                  <a:pt x="2670" y="7455"/>
                </a:moveTo>
                <a:cubicBezTo>
                  <a:pt x="2659" y="7456"/>
                  <a:pt x="2658" y="7459"/>
                  <a:pt x="2652" y="7462"/>
                </a:cubicBezTo>
                <a:cubicBezTo>
                  <a:pt x="2655" y="7462"/>
                  <a:pt x="2655" y="7463"/>
                  <a:pt x="2658" y="7463"/>
                </a:cubicBezTo>
                <a:cubicBezTo>
                  <a:pt x="2752" y="7453"/>
                  <a:pt x="2838" y="7418"/>
                  <a:pt x="2931" y="7409"/>
                </a:cubicBezTo>
                <a:cubicBezTo>
                  <a:pt x="3047" y="7398"/>
                  <a:pt x="3162" y="7387"/>
                  <a:pt x="3278" y="7374"/>
                </a:cubicBezTo>
                <a:cubicBezTo>
                  <a:pt x="3524" y="7346"/>
                  <a:pt x="3762" y="7291"/>
                  <a:pt x="4010" y="7288"/>
                </a:cubicBezTo>
                <a:cubicBezTo>
                  <a:pt x="4163" y="7286"/>
                  <a:pt x="4311" y="7305"/>
                  <a:pt x="4463" y="7313"/>
                </a:cubicBezTo>
                <a:cubicBezTo>
                  <a:pt x="4641" y="7322"/>
                  <a:pt x="4818" y="7303"/>
                  <a:pt x="4995" y="7288"/>
                </a:cubicBezTo>
                <a:cubicBezTo>
                  <a:pt x="5091" y="7280"/>
                  <a:pt x="5184" y="7286"/>
                  <a:pt x="5280" y="7291"/>
                </a:cubicBezTo>
                <a:cubicBezTo>
                  <a:pt x="5506" y="7303"/>
                  <a:pt x="5729" y="7303"/>
                  <a:pt x="5955" y="7301"/>
                </a:cubicBezTo>
                <a:cubicBezTo>
                  <a:pt x="6095" y="7300"/>
                  <a:pt x="6234" y="7309"/>
                  <a:pt x="6374" y="7314"/>
                </a:cubicBezTo>
                <a:cubicBezTo>
                  <a:pt x="6622" y="7324"/>
                  <a:pt x="6871" y="7326"/>
                  <a:pt x="7117" y="7350"/>
                </a:cubicBezTo>
                <a:cubicBezTo>
                  <a:pt x="7191" y="7357"/>
                  <a:pt x="7272" y="7373"/>
                  <a:pt x="7342" y="7380"/>
                </a:cubicBezTo>
                <a:cubicBezTo>
                  <a:pt x="7345" y="7380"/>
                  <a:pt x="7344" y="7378"/>
                  <a:pt x="7344" y="7378"/>
                </a:cubicBezTo>
                <a:cubicBezTo>
                  <a:pt x="7345" y="7378"/>
                  <a:pt x="7387" y="7378"/>
                  <a:pt x="7409" y="7376"/>
                </a:cubicBezTo>
                <a:cubicBezTo>
                  <a:pt x="7590" y="7361"/>
                  <a:pt x="7777" y="7332"/>
                  <a:pt x="7961" y="7327"/>
                </a:cubicBezTo>
                <a:cubicBezTo>
                  <a:pt x="7976" y="7327"/>
                  <a:pt x="8001" y="7330"/>
                  <a:pt x="8010" y="7330"/>
                </a:cubicBezTo>
                <a:cubicBezTo>
                  <a:pt x="8010" y="7330"/>
                  <a:pt x="8010" y="7329"/>
                  <a:pt x="8010" y="7329"/>
                </a:cubicBezTo>
                <a:cubicBezTo>
                  <a:pt x="8011" y="7330"/>
                  <a:pt x="8013" y="7333"/>
                  <a:pt x="8010" y="7328"/>
                </a:cubicBezTo>
                <a:cubicBezTo>
                  <a:pt x="8003" y="7325"/>
                  <a:pt x="8004" y="7327"/>
                  <a:pt x="7998" y="7323"/>
                </a:cubicBezTo>
              </a:path>
            </a:pathLst>
          </a:custGeom>
          <a:noFill/>
          <a:ln cap="rnd" w="19080">
            <a:solidFill>
              <a:srgbClr val="ff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1" name="Ink 6"/>
          <p:cNvSpPr/>
          <p:nvPr/>
        </p:nvSpPr>
        <p:spPr>
          <a:xfrm>
            <a:off x="3036960" y="2573280"/>
            <a:ext cx="3233520" cy="71640"/>
          </a:xfrm>
          <a:custGeom>
            <a:avLst/>
            <a:gdLst/>
            <a:ahLst/>
            <a:rect l="l" t="t" r="r" b="b"/>
            <a:pathLst>
              <a:path w="8984" h="196">
                <a:moveTo>
                  <a:pt x="8509" y="7307"/>
                </a:moveTo>
                <a:cubicBezTo>
                  <a:pt x="8485" y="7305"/>
                  <a:pt x="8448" y="7306"/>
                  <a:pt x="8436" y="7306"/>
                </a:cubicBezTo>
                <a:cubicBezTo>
                  <a:pt x="8441" y="7307"/>
                  <a:pt x="8451" y="7318"/>
                  <a:pt x="8459" y="7319"/>
                </a:cubicBezTo>
                <a:cubicBezTo>
                  <a:pt x="8537" y="7329"/>
                  <a:pt x="8617" y="7333"/>
                  <a:pt x="8697" y="7336"/>
                </a:cubicBezTo>
                <a:cubicBezTo>
                  <a:pt x="9231" y="7356"/>
                  <a:pt x="9769" y="7333"/>
                  <a:pt x="10302" y="7344"/>
                </a:cubicBezTo>
                <a:cubicBezTo>
                  <a:pt x="10854" y="7355"/>
                  <a:pt x="11422" y="7304"/>
                  <a:pt x="11973" y="7260"/>
                </a:cubicBezTo>
                <a:cubicBezTo>
                  <a:pt x="12453" y="7222"/>
                  <a:pt x="12936" y="7202"/>
                  <a:pt x="13417" y="7173"/>
                </a:cubicBezTo>
                <a:cubicBezTo>
                  <a:pt x="13650" y="7159"/>
                  <a:pt x="13884" y="7158"/>
                  <a:pt x="14116" y="7150"/>
                </a:cubicBezTo>
                <a:cubicBezTo>
                  <a:pt x="14106" y="7154"/>
                  <a:pt x="14112" y="7154"/>
                  <a:pt x="14103" y="7151"/>
                </a:cubicBezTo>
                <a:cubicBezTo>
                  <a:pt x="14107" y="7157"/>
                  <a:pt x="14110" y="7150"/>
                  <a:pt x="14103" y="7153"/>
                </a:cubicBezTo>
                <a:cubicBezTo>
                  <a:pt x="14106" y="7153"/>
                  <a:pt x="14104" y="7157"/>
                  <a:pt x="14118" y="7158"/>
                </a:cubicBezTo>
                <a:cubicBezTo>
                  <a:pt x="14187" y="7162"/>
                  <a:pt x="14263" y="7164"/>
                  <a:pt x="14337" y="7165"/>
                </a:cubicBezTo>
                <a:cubicBezTo>
                  <a:pt x="14900" y="7175"/>
                  <a:pt x="15462" y="7175"/>
                  <a:pt x="16025" y="7180"/>
                </a:cubicBezTo>
                <a:cubicBezTo>
                  <a:pt x="16403" y="7184"/>
                  <a:pt x="16780" y="7176"/>
                  <a:pt x="17158" y="7186"/>
                </a:cubicBezTo>
                <a:cubicBezTo>
                  <a:pt x="17241" y="7188"/>
                  <a:pt x="17336" y="7185"/>
                  <a:pt x="17412" y="7187"/>
                </a:cubicBezTo>
                <a:cubicBezTo>
                  <a:pt x="17415" y="7187"/>
                  <a:pt x="17411" y="7190"/>
                  <a:pt x="17414" y="7190"/>
                </a:cubicBezTo>
                <a:cubicBezTo>
                  <a:pt x="17401" y="7188"/>
                  <a:pt x="17401" y="7188"/>
                  <a:pt x="17383" y="7184"/>
                </a:cubicBezTo>
              </a:path>
            </a:pathLst>
          </a:custGeom>
          <a:noFill/>
          <a:ln cap="rnd" w="1908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 name="Ink 7"/>
          <p:cNvSpPr/>
          <p:nvPr/>
        </p:nvSpPr>
        <p:spPr>
          <a:xfrm>
            <a:off x="882720" y="3060720"/>
            <a:ext cx="4917960" cy="122040"/>
          </a:xfrm>
          <a:custGeom>
            <a:avLst/>
            <a:gdLst/>
            <a:ahLst/>
            <a:rect l="l" t="t" r="r" b="b"/>
            <a:pathLst>
              <a:path w="13664" h="343">
                <a:moveTo>
                  <a:pt x="2451" y="8794"/>
                </a:moveTo>
                <a:cubicBezTo>
                  <a:pt x="2531" y="8805"/>
                  <a:pt x="2638" y="8838"/>
                  <a:pt x="2734" y="8840"/>
                </a:cubicBezTo>
                <a:cubicBezTo>
                  <a:pt x="2948" y="8844"/>
                  <a:pt x="3170" y="8811"/>
                  <a:pt x="3384" y="8791"/>
                </a:cubicBezTo>
                <a:cubicBezTo>
                  <a:pt x="4292" y="8706"/>
                  <a:pt x="5200" y="8688"/>
                  <a:pt x="6108" y="8591"/>
                </a:cubicBezTo>
                <a:cubicBezTo>
                  <a:pt x="6553" y="8543"/>
                  <a:pt x="6996" y="8503"/>
                  <a:pt x="7444" y="8500"/>
                </a:cubicBezTo>
                <a:cubicBezTo>
                  <a:pt x="7752" y="8498"/>
                  <a:pt x="8063" y="8499"/>
                  <a:pt x="8370" y="8507"/>
                </a:cubicBezTo>
                <a:cubicBezTo>
                  <a:pt x="8769" y="8517"/>
                  <a:pt x="9166" y="8543"/>
                  <a:pt x="9566" y="8551"/>
                </a:cubicBezTo>
                <a:cubicBezTo>
                  <a:pt x="10207" y="8564"/>
                  <a:pt x="10848" y="8558"/>
                  <a:pt x="11489" y="8562"/>
                </a:cubicBezTo>
                <a:cubicBezTo>
                  <a:pt x="12068" y="8566"/>
                  <a:pt x="12642" y="8612"/>
                  <a:pt x="13222" y="8594"/>
                </a:cubicBezTo>
                <a:cubicBezTo>
                  <a:pt x="14048" y="8568"/>
                  <a:pt x="14951" y="8486"/>
                  <a:pt x="15770" y="8581"/>
                </a:cubicBezTo>
                <a:cubicBezTo>
                  <a:pt x="15882" y="8594"/>
                  <a:pt x="16004" y="8615"/>
                  <a:pt x="16111" y="8628"/>
                </a:cubicBezTo>
                <a:cubicBezTo>
                  <a:pt x="16111" y="8638"/>
                  <a:pt x="16111" y="8635"/>
                  <a:pt x="16114" y="8642"/>
                </a:cubicBezTo>
                <a:cubicBezTo>
                  <a:pt x="16106" y="8641"/>
                  <a:pt x="16081" y="8637"/>
                  <a:pt x="16080" y="863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Carlyle</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fontScale="97000"/>
          </a:bodyPr>
          <a:p>
            <a:pPr marL="264600" indent="-26460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omas Carlyle</a:t>
            </a:r>
            <a:r>
              <a:rPr b="0" lang="en-US" sz="2500" spc="-1" strike="noStrike">
                <a:solidFill>
                  <a:srgbClr val="000000"/>
                </a:solidFill>
                <a:latin typeface="Calibri"/>
              </a:rPr>
              <a:t> (4 December 1795 – 5 February 1881) was a </a:t>
            </a:r>
            <a:r>
              <a:rPr b="0" lang="en-US" sz="2500" spc="-1" strike="noStrike" u="sng">
                <a:solidFill>
                  <a:srgbClr val="0000ff"/>
                </a:solidFill>
                <a:uFillTx/>
                <a:latin typeface="Calibri"/>
                <a:hlinkClick r:id="rId1"/>
              </a:rPr>
              <a:t>Scottish</a:t>
            </a:r>
            <a:r>
              <a:rPr b="0" lang="en-US" sz="2500" spc="-1" strike="noStrike">
                <a:solidFill>
                  <a:srgbClr val="000000"/>
                </a:solidFill>
                <a:latin typeface="Calibri"/>
              </a:rPr>
              <a:t> </a:t>
            </a:r>
            <a:r>
              <a:rPr b="0" lang="en-US" sz="2500" spc="-1" strike="noStrike" u="sng">
                <a:solidFill>
                  <a:srgbClr val="0000ff"/>
                </a:solidFill>
                <a:uFillTx/>
                <a:latin typeface="Calibri"/>
                <a:hlinkClick r:id="rId2"/>
              </a:rPr>
              <a:t>satirical</a:t>
            </a:r>
            <a:r>
              <a:rPr b="0" lang="en-US" sz="2500" spc="-1" strike="noStrike">
                <a:solidFill>
                  <a:srgbClr val="000000"/>
                </a:solidFill>
                <a:latin typeface="Calibri"/>
              </a:rPr>
              <a:t> writer, </a:t>
            </a:r>
            <a:r>
              <a:rPr b="0" lang="en-US" sz="2500" spc="-1" strike="noStrike" u="sng">
                <a:solidFill>
                  <a:srgbClr val="0000ff"/>
                </a:solidFill>
                <a:uFillTx/>
                <a:latin typeface="Calibri"/>
                <a:hlinkClick r:id="rId3"/>
              </a:rPr>
              <a:t>essayist</a:t>
            </a:r>
            <a:r>
              <a:rPr b="0" lang="en-US" sz="2500" spc="-1" strike="noStrike">
                <a:solidFill>
                  <a:srgbClr val="000000"/>
                </a:solidFill>
                <a:latin typeface="Calibri"/>
              </a:rPr>
              <a:t>, </a:t>
            </a:r>
            <a:r>
              <a:rPr b="0" lang="en-US" sz="2500" spc="-1" strike="noStrike" u="sng">
                <a:solidFill>
                  <a:srgbClr val="0000ff"/>
                </a:solidFill>
                <a:uFillTx/>
                <a:latin typeface="Calibri"/>
                <a:hlinkClick r:id="rId4"/>
              </a:rPr>
              <a:t>historian</a:t>
            </a:r>
            <a:r>
              <a:rPr b="0" lang="en-US" sz="2500" spc="-1" strike="noStrike">
                <a:solidFill>
                  <a:srgbClr val="000000"/>
                </a:solidFill>
                <a:latin typeface="Calibri"/>
              </a:rPr>
              <a:t> and teacher during the </a:t>
            </a:r>
            <a:r>
              <a:rPr b="0" lang="en-US" sz="2500" spc="-1" strike="noStrike" u="sng">
                <a:solidFill>
                  <a:srgbClr val="0000ff"/>
                </a:solidFill>
                <a:uFillTx/>
                <a:latin typeface="Calibri"/>
                <a:hlinkClick r:id="rId5"/>
              </a:rPr>
              <a:t>Victorian era</a:t>
            </a:r>
            <a:r>
              <a:rPr b="0" lang="en-US" sz="2500" spc="-1" strike="noStrike">
                <a:solidFill>
                  <a:srgbClr val="000000"/>
                </a:solidFill>
                <a:latin typeface="Calibri"/>
              </a:rPr>
              <a:t>. He called </a:t>
            </a:r>
            <a:r>
              <a:rPr b="0" lang="en-US" sz="2500" spc="-1" strike="noStrike" u="sng">
                <a:solidFill>
                  <a:srgbClr val="0000ff"/>
                </a:solidFill>
                <a:uFillTx/>
                <a:latin typeface="Calibri"/>
                <a:hlinkClick r:id="rId6"/>
              </a:rPr>
              <a:t>economics</a:t>
            </a:r>
            <a:r>
              <a:rPr b="0" lang="en-US" sz="2500" spc="-1" strike="noStrike">
                <a:solidFill>
                  <a:srgbClr val="000000"/>
                </a:solidFill>
                <a:latin typeface="Calibri"/>
              </a:rPr>
              <a:t> "</a:t>
            </a:r>
            <a:r>
              <a:rPr b="0" lang="en-US" sz="2500" spc="-1" strike="noStrike" u="sng">
                <a:solidFill>
                  <a:srgbClr val="0000ff"/>
                </a:solidFill>
                <a:uFillTx/>
                <a:latin typeface="Calibri"/>
                <a:hlinkClick r:id="rId7"/>
              </a:rPr>
              <a:t>the dismal science</a:t>
            </a:r>
            <a:r>
              <a:rPr b="0" lang="en-US" sz="2500" spc="-1" strike="noStrike">
                <a:solidFill>
                  <a:srgbClr val="000000"/>
                </a:solidFill>
                <a:latin typeface="Calibri"/>
              </a:rPr>
              <a:t>", wrote articles for the </a:t>
            </a:r>
            <a:r>
              <a:rPr b="0" i="1" lang="en-US" sz="2500" spc="-1" strike="noStrike">
                <a:solidFill>
                  <a:srgbClr val="000000"/>
                </a:solidFill>
                <a:latin typeface="Calibri"/>
              </a:rPr>
              <a:t>Edinburgh Encyclopedia</a:t>
            </a:r>
            <a:r>
              <a:rPr b="0" lang="en-US" sz="2500" spc="-1" strike="noStrike">
                <a:solidFill>
                  <a:srgbClr val="000000"/>
                </a:solidFill>
                <a:latin typeface="Calibri"/>
              </a:rPr>
              <a:t>, and became a controversial social commentator.</a:t>
            </a:r>
            <a:endParaRPr b="0" lang="en-US" sz="2500" spc="-1" strike="noStrike">
              <a:solidFill>
                <a:srgbClr val="000000"/>
              </a:solidFill>
              <a:latin typeface="Calibri"/>
            </a:endParaRPr>
          </a:p>
          <a:p>
            <a:pPr marL="264600" indent="-26460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ing from a strict </a:t>
            </a:r>
            <a:r>
              <a:rPr b="0" lang="en-US" sz="2500" spc="-1" strike="noStrike" u="sng">
                <a:solidFill>
                  <a:srgbClr val="0000ff"/>
                </a:solidFill>
                <a:uFillTx/>
                <a:latin typeface="Calibri"/>
                <a:hlinkClick r:id="rId8"/>
              </a:rPr>
              <a:t>Calvinist</a:t>
            </a:r>
            <a:r>
              <a:rPr b="0" lang="en-US" sz="2500" spc="-1" strike="noStrike">
                <a:solidFill>
                  <a:srgbClr val="000000"/>
                </a:solidFill>
                <a:latin typeface="Calibri"/>
              </a:rPr>
              <a:t> family, Carlyle was expected to become a preacher by his parents, but while at the </a:t>
            </a:r>
            <a:r>
              <a:rPr b="0" lang="en-US" sz="2500" spc="-1" strike="noStrike" u="sng">
                <a:solidFill>
                  <a:srgbClr val="0000ff"/>
                </a:solidFill>
                <a:uFillTx/>
                <a:latin typeface="Calibri"/>
                <a:hlinkClick r:id="rId9"/>
              </a:rPr>
              <a:t>University of Edinburgh</a:t>
            </a:r>
            <a:r>
              <a:rPr b="0" lang="en-US" sz="2500" spc="-1" strike="noStrike">
                <a:solidFill>
                  <a:srgbClr val="000000"/>
                </a:solidFill>
                <a:latin typeface="Calibri"/>
              </a:rPr>
              <a:t>, he lost his Christian faith. Calvinist values, however, remained with him throughout his life. This combination, of a religious temperament with loss of faith in traditional Christianity, made Carlyle's work appealing to many Victorians who were grappling with scientific and political changes that threatened the traditional social order.</a:t>
            </a:r>
            <a:endParaRPr b="0" lang="en-US" sz="2500" spc="-1" strike="noStrike">
              <a:solidFill>
                <a:srgbClr val="000000"/>
              </a:solidFill>
              <a:latin typeface="Calibri"/>
            </a:endParaRPr>
          </a:p>
          <a:p>
            <a:pPr marL="264600" indent="-26460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22:02:57Z</dcterms:created>
  <dc:creator>BCornell</dc:creator>
  <dc:description/>
  <dc:language>en-US</dc:language>
  <cp:lastModifiedBy>ALM</cp:lastModifiedBy>
  <dcterms:modified xsi:type="dcterms:W3CDTF">2020-03-26T09:14:32Z</dcterms:modified>
  <cp:revision>26</cp:revision>
  <dc:subject/>
  <dc:title>Victorian Essayists</dc:title>
</cp:coreProperties>
</file>